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3F1-CDA2-427C-978A-DF04B7B6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7AC-5684-4822-9AAA-90545CC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58F-B9FF-4D9E-96A9-A2E7D1A5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FFF-2D39-48A4-A14F-D2867574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447-0B72-4E3F-A954-826630B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171-4CC6-416C-95C0-6C6FC566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B97-F344-435C-8950-F57420DD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5F4-4BB4-4D3A-AA47-B218A6D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1D7A-323F-4A81-86D6-3742AD3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7CB-F656-48A7-A9F8-B2E38FD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AE9-B92C-4B28-88C9-8448645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A62-2614-4FB6-8D1B-869EE67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8A9A-E18D-4553-9558-A7AF8DABA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rases and Clau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ast word of the phrase is the MAI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s that precede, come before, the main verb are AUXILLIARIES or AUXILLIARY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been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cooking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crawling;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has </a:t>
            </a: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n expression lik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verb phrase is incomplete and said to be ELLIPT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(b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e h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(had) 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birthday)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9900"/>
                </a:solidFill>
                <a:latin typeface="Arial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ay; might; can; could; will; would; shall; should; must; ought;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can 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ight arriv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omo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ust have lost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my 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Finite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4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omebody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speaks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peak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few minutes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e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mention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Mentioning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…….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y to the difference is to do with an important distinction within the functioning of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 can function independently as communications with an adressee (ie, telling us someth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ed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 declarative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d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the ship 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disappear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do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ship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disappearing….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distinguish between telling and 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Finite</a:t>
            </a:r>
            <a:r>
              <a:rPr b="0" lang="en-GB" sz="32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have a subject and a verb;</a:t>
            </a: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Non-finite</a:t>
            </a: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ructions need not have a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every chair’ but not ‘every hot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noun phrase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oun head may have a determiner, while adjective heads cannot have a determi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ds modifying the adjective are called INTENS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say ‘terribly hot’ but not terribly chair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99"/>
                </a:solidFill>
                <a:latin typeface="Arial"/>
              </a:rPr>
              <a:t>Adjectiv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ome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Terrib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ar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difficul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h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ressions in which nouns form the principal or main element (e.g. a chair, the university, my car) a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can be plural; while adjectives cannot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990099"/>
                </a:solidFill>
                <a:latin typeface="Arial"/>
              </a:rPr>
              <a:t>hungrie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*not possible as a sentenc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The men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9900"/>
                </a:solidFill>
                <a:latin typeface="Arial"/>
              </a:rPr>
              <a:t>wer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sentence patter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last train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has arrived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lready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( C 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Your uncle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left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a message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yesterday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The counsellors </a:t>
            </a:r>
            <a:r>
              <a:rPr b="0" lang="en-GB" sz="2400" spc="-1" strike="noStrike">
                <a:solidFill>
                  <a:srgbClr val="009900"/>
                </a:solidFill>
                <a:latin typeface="Arial"/>
              </a:rPr>
              <a:t>seem</a:t>
            </a:r>
            <a:r>
              <a:rPr b="0" lang="en-GB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990099"/>
                </a:solidFill>
                <a:latin typeface="Arial"/>
              </a:rPr>
              <a:t>very determined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this week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s work is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keep th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n is s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jury found her innocent after two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might send me an inv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ordination and co-ord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SIMPLE sentence consists of one c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s can be combined to make COMPLEX sentences: ie, sentences with more than one c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ways in which clauses in simple sentences can be combi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-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clause equ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. The man shot his horse (and) (he) took the carcass to the glue fac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h clauses equal stat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b-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clause is involved within the structure  of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The gir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ho was drinking a glass of wine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e a red dres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Arial"/>
              </a:rPr>
              <a:t>Noun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ain element of the phrase is the noun, called the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an be preceded by a subsidiary element called the MODIF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d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ll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ers often determ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types of modifier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is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larg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house; a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cruel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eception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valuable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 – so that a phrase may have two nouns, one acting as the head and the other as a modifier –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a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ducation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olicy; th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hous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lans;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furniture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catalog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st Mod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 phrases can also have modifying elements coming after the head: called Post-modifi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men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outsi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people </a:t>
            </a:r>
            <a:r>
              <a:rPr b="0" i="1" lang="en-GB" sz="3200" spc="-1" strike="noStrike">
                <a:solidFill>
                  <a:srgbClr val="ff3300"/>
                </a:solidFill>
                <a:latin typeface="Arial"/>
              </a:rPr>
              <a:t>exclu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noun phrase begins with a preposition, then it is known as a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E.g. By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e dog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to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your employer;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</a:rPr>
              <a:t>with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hose cow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ve two elem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INITIATING element: ie, the preposition itself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COMPL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Prepositional phras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occur or come after the head of a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noun phrase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nown as post-modifiers of the head. E.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letter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 your employer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The administration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f the schools.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Verb phr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‘verb’ element in a clause need not necessarily be just a single wor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made up of several verb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been cook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were crawling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Arial"/>
              </a:rPr>
              <a:t>has disappea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1:05:27Z</dcterms:created>
  <dc:creator>student</dc:creator>
  <dc:description/>
  <dc:language>en-US</dc:language>
  <cp:lastModifiedBy>foxra</cp:lastModifiedBy>
  <dcterms:modified xsi:type="dcterms:W3CDTF">2009-02-17T16:25:43Z</dcterms:modified>
  <cp:revision>7</cp:revision>
  <dc:subject/>
  <dc:title>Phrases and Clauses </dc:title>
</cp:coreProperties>
</file>